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A1E6-6EA5-4ECC-98B2-1F3254627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DF4F-0062-4FA2-B05F-57D31147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62B9-A4F5-4F93-8252-F85C71DBB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8448-FFED-452C-847C-4DF653D2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BE3F-06EA-45AF-BAEE-04A5647C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C3E7-83CE-48C2-9298-51ED5E51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1817-4B10-4864-8E22-419965E1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EF95-DA45-472A-B0A1-459AFC6B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AF86-F0B5-4E5C-9853-E45F0033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270B-E398-45C8-96B4-853A6ACB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0121-6A5D-4B58-850B-AC295A77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D0BE-5C00-400D-A476-A189872D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F0CC-C9A9-46E5-A8FC-A1D27673B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640" y="4365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Evaluation of Digital Technolog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oretical Evaluation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estion 1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fessionalism on a budg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141200"/>
            <a:ext cx="8435880" cy="57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does your use of digital technology compare to production of real media tex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16-19 year olds you are not expected to be able to replicate what professional media institutions can do…or has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x’s idea of the means of production being used by the dominant ideology to keep the masses oppressed is increasingly becoming a redundant theory.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cause cheap, efficient technology is accessible to most of 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fore we are able to produc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me wor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at could pass for professional, particularly print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 do we think this is the same case for the A2 trail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haves and have not'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aspect of digital technology you might need to discuss and evaluate –without moaning – is the quality of technology you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sions of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ality of cameras (pixel ratios, SLR or compact, HD et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b 2.0-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notes on question 5 and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has your use of digital hardware technology developed between AS and A2 Med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at is digital technolog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technology enables immense amounts of information to be compressed on small storage devices that can be easily preserved and transpor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ization also quickens data transmission spee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ized information is recorded in binary code of combinations of the digits 0 and 1, also called bits, which represent words and im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has digital technology enabled us to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technology has transformed how people communicate, learn, and wor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also transformed the way media can be researched, created, distributed and vie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member AS music industry…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ring the music industry topic many key terms and theories were discussed with regards to digital technology…lets have a quick te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igital tech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meant by “Convergenc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meant by ‘digital zeitgeist’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a technophile and a technopho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meant by prolifer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es compression technology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es ‘means of production’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web 2.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es ‘user generated content’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Forms of digital technolog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674720"/>
            <a:ext cx="8362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are the various forms of digital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ardware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equipment such as cameras, DV cameras, mobile phones and of course 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oftwa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photo manipulation, design, editing, desk top publishing, presentational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eb 2.0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earch engines, user generated sites, social media sites, fan sites, institutional sites, review sites, email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Your digital tec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rainstorm and make notes in your bookle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All the digital technology you have used during AS and A2 Media Studies. Split it into 3 se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-production research and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tion/constr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st-production and eval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Non- digital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’s easy to assume that in 2011 all research, construction and post-production work is produced solely with digital techn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 what non-digital technology did you use during AS and A2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hysical copies of magaz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lm and film trailers on TV/cinema/DV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ncil sketching and storyboar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y ot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Your digital tech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technically skilled were you before you began the cours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te yourself out of 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ember what we said about creativity and technical proficienc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picked up skills from other subjects? If so 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notes in bookl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kills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4358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were the skills learnt at AS useful in A2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si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ility to use soft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ility to use hard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rovements in using web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you a technophile of technopho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notes in book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2:50:24Z</dcterms:created>
  <dc:creator>#</dc:creator>
  <dc:description/>
  <dc:language>en-US</dc:language>
  <cp:lastModifiedBy>ms</cp:lastModifiedBy>
  <dcterms:modified xsi:type="dcterms:W3CDTF">2011-03-31T12:24:01Z</dcterms:modified>
  <cp:revision>2</cp:revision>
  <dc:subject/>
  <dc:title>Evaluation of Digital Technology </dc:title>
</cp:coreProperties>
</file>